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AB7-D9E9-4D59-8599-C7E586EF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6D5-C69E-4CA2-85A4-EA1A9037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B0F-D387-4B59-8FAE-0EEAD883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F04-D067-4398-8BCC-0F723C84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467-73D0-4471-90E6-B4C1CE8E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3B3-7C32-4D45-9E74-AAB83875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BAD-3EE5-4D3F-9317-9F683C4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11C-8353-49E3-9786-E4DCB485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AA1-A20E-4327-821C-F30D8014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188-3F9B-4995-BD65-0082988D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B4E-3D43-48F7-9C3C-E7CEBCF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A07-AA97-4F7D-87A2-EE99DB8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6991-AC4A-4FBA-BE4C-A8416188B0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30160" y="4508280"/>
            <a:ext cx="5613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Ruqah2 Normal"/>
              </a:rPr>
              <a:t>ما أبهى نورك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3280" y="2707920"/>
            <a:ext cx="5940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ما أبهى نوركَ أيها المسيح ابن الله نور الحق والحياة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بك نهت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1280" y="2636640"/>
            <a:ext cx="5292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تشرق عليّ نوراً تضيء دربي إليك وبفرح لقائي آتيكَ ربّ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3280" y="2707920"/>
            <a:ext cx="5940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ما أبهى نوركَ أيها المسيح ابن الله نور الحق والحياة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بك نهت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9:52:04Z</dcterms:created>
  <dc:creator>Charbel Azar</dc:creator>
  <dc:description/>
  <dc:language>en-US</dc:language>
  <cp:lastModifiedBy>-</cp:lastModifiedBy>
  <dcterms:modified xsi:type="dcterms:W3CDTF">2003-01-30T06:48:53Z</dcterms:modified>
  <cp:revision>9</cp:revision>
  <dc:subject/>
  <dc:title>أنتَ المسيح ابن الله الحيّ</dc:title>
</cp:coreProperties>
</file>